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1D8-4F67-40C0-AC1F-59331BB8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832-8F1B-4280-B768-1A77753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14A-749C-4A2B-8179-D06E6EC0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06F-8981-4368-9EA0-950BAFA6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458-7FBB-455E-A45C-D26B4868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58E-27CD-43B5-9773-6E43947A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6FB-BC50-4EF5-8D0E-E94C9672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26D-D39E-4B24-8E79-8F5461B7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1E7-84A3-4619-AD2E-3D7F7467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9C6-EC1E-4942-A3F8-DDDD1BE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2E3-60CA-47A2-BE4D-AF95DAFF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6DF-77B5-4B17-8F0E-8C3C2F8B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3501-BA93-477A-8000-6008ED8E0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539" t="11353" r="15397" b="138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сследование зависимости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мощности тока</a:t>
            </a:r>
            <a:br>
              <a:rPr sz="44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т электрического сопротивления</a:t>
            </a:r>
            <a:br>
              <a:rPr sz="4400"/>
            </a:br>
            <a:br>
              <a:rPr sz="1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при различных видах соединения проводник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5361" t="7779" r="5181" b="87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2822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иведите теоретические объяснения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 и 2  выводов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лученных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эксперимента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10000"/>
          </a:blip>
          <a:srcRect l="40776" t="0" r="0" b="335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340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99"/>
                </a:solidFill>
                <a:latin typeface="Arial"/>
              </a:rPr>
              <a:t>Задачи учащихс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снове эксперимента исследовать зависимос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щности тока от величины сопротивления при последовательном соедин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щности тока от величины сопротивления при параллельном  соедин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щности тока от величины сопротивления реос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ть мощность при последовательном и параллельном соединении одних и тех же резис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>
            <a:lum bright="10000"/>
          </a:blip>
          <a:srcRect l="40776" t="0" r="0" b="335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авить письменный отчёт о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дённом эксперим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сказать о результатах и вывод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дённого эксперим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астникам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писать в тетради ответы на поставленны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ценить работу всех участников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900000" y="340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99"/>
                </a:solidFill>
                <a:latin typeface="Arial"/>
              </a:rPr>
              <a:t>Задачи учащихс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10000"/>
          </a:blip>
          <a:srcRect l="40776" t="0" r="0" b="335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99"/>
                </a:solidFill>
                <a:latin typeface="Arial"/>
              </a:rPr>
              <a:t>План устного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4088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кова была цель проводим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ксперимент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то делал и какое оборуд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спользовал для выпол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ставленной цел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кие результаты получил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акие выводы сделал?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10000"/>
          </a:blip>
          <a:srcRect l="40776" t="0" r="0" b="335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340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99"/>
                </a:solidFill>
                <a:latin typeface="Arial"/>
              </a:rPr>
              <a:t>Выводы из проделанных экспери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399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последовательном соединении: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 больше сопротивление резистора,   тем больше выделяемая на нем мощ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параллельном соединении:               чем больше сопротивление резистора,   тем меньше выделяемая на нем мощ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последовательном соединении резисторов выделяется меньшая мощность, чем при подключении их паралл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10000"/>
          </a:blip>
          <a:srcRect l="40776" t="0" r="0" b="335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увеличении сопротивления реостата выделяемая на нем мощность сначала увеличивается, а потом уменьш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шеизложенные выводы справедливы, если во всех случаях ток протекает в течение одинаковых отрезков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00000" y="3409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99"/>
                </a:solidFill>
                <a:latin typeface="Arial"/>
              </a:rPr>
              <a:t>Выводы из проделанных экспери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10000"/>
          </a:blip>
          <a:srcRect l="40776" t="0" r="0" b="335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904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се пункты плана изложены пол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 понятно для вс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ыводы совпадают с представленными для итогового обс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ечь правильная, связ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е смотрёл в отчёт, рассказывал са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99"/>
                </a:solidFill>
                <a:latin typeface="Arial"/>
              </a:rPr>
              <a:t>Критерии оценки устного расс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bright="10000"/>
          </a:blip>
          <a:srcRect l="40776" t="0" r="0" b="3359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4200" y="1844640"/>
            <a:ext cx="79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жно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что для вас было важно на данном урок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ясно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что осталось неясным и треб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полнительных пояснений)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900000" y="33300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99"/>
                </a:solidFill>
                <a:latin typeface="Arial"/>
              </a:rPr>
              <a:t>Ответьте одним предложени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5361" t="7779" r="5181" b="87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СЕМ 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9:15:49Z</dcterms:created>
  <dc:creator>Я</dc:creator>
  <dc:description/>
  <dc:language>en-US</dc:language>
  <cp:lastModifiedBy>Я</cp:lastModifiedBy>
  <dcterms:modified xsi:type="dcterms:W3CDTF">2016-04-19T19:57:29Z</dcterms:modified>
  <cp:revision>14</cp:revision>
  <dc:subject/>
  <dc:title>Решение экспериментальных задач  по теме «силы в природе»</dc:title>
</cp:coreProperties>
</file>